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72880" y="696960"/>
            <a:ext cx="4638600" cy="34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E7876D3-6F31-4095-838B-2BD7E4FAD54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Si uno quisiera resumir en pocas frases la esencia del modelo que estamos planteando, serían estos 3 concepto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Este último es clave respecto de los requerimientos de fondos públicos. El Modelo que estamos plantenado es uno de securitización de los créditos otorgados a los jóvenes para recoger recursos del Mercado de Capitales. En régimen, este sistema debiera autosustentarse y no presionar al gasto fiscal como el sistema del Fondo Solidario. Se requiere un tiempo de maduración que es difícil de predecir, pues dependerá del mercado, pero por lo menos, unos 6 a 8 años, de capitalización por una parte y de consolidación en el mercado financiero, hasta convertirse en una real opción de inversiones a tasas razonables y con porcentajes de sobrecolateralización mínimos.Esquema parecido al de los recursos para préstamos hipotecari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394F-6F83-4974-920D-B12E83883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8863-B2C0-4CE5-A488-D158D7289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A25E-73D2-4387-A559-11C379AD6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FBF8-8E34-4471-85E8-CEAD5C54F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59EFB-1E95-484C-A8E2-438E32897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7931D-ED81-479B-A630-E74F6F595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4571D-9BA8-46C7-B652-6FCAE3EF2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73E40-CC55-49F2-AFBC-6B0AB00BF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2C35C-505D-4617-A8D9-885248E49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920" y="617040"/>
            <a:ext cx="7794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1EBA9-870A-4EDF-98B8-C0AE8EA5F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004C8-034A-4C72-93DF-1FF8A677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344F-B6A3-4CDF-9FFA-395CEE166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036BE-3AF5-45D6-A455-8FFDF389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5B626-8550-4391-81B4-DA736369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99B01-C1DF-458D-8CA3-39AAB9BC3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B0B5D-4902-437B-AB50-CA74906B9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3FBD9-458E-4238-B16F-60E94A0C9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EC38-B659-4752-B4B8-6A604AB62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37E0-907B-4911-A125-783ACDDCE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B6B8-88D3-47DD-A184-86FE01306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50920" y="617040"/>
            <a:ext cx="7794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F038-5B44-4344-B04D-7CC2CF777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652E-3A2E-4483-B1F5-242D5E1F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162B-5954-44BF-AFAF-53766369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0488-C4F4-4C47-9D20-EBB73954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C8694-12CD-4ED5-983F-43619822394E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2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3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6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85BB1-FBA6-43AB-A86D-74931DE07B92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1905120"/>
            <a:ext cx="77929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Reprogramación de Crédito Solidari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9" name="solidaridad" descr=""/>
          <p:cNvPicPr/>
          <p:nvPr/>
        </p:nvPicPr>
        <p:blipFill>
          <a:blip r:embed="rId1"/>
          <a:stretch/>
        </p:blipFill>
        <p:spPr>
          <a:xfrm>
            <a:off x="380880" y="3505320"/>
            <a:ext cx="3886200" cy="3062160"/>
          </a:xfrm>
          <a:prstGeom prst="rect">
            <a:avLst/>
          </a:prstGeom>
          <a:ln w="0">
            <a:noFill/>
          </a:ln>
        </p:spPr>
      </p:pic>
      <p:pic>
        <p:nvPicPr>
          <p:cNvPr id="100" name="logo72" descr=""/>
          <p:cNvPicPr/>
          <p:nvPr/>
        </p:nvPicPr>
        <p:blipFill>
          <a:blip r:embed="rId2"/>
          <a:stretch/>
        </p:blipFill>
        <p:spPr>
          <a:xfrm>
            <a:off x="7391520" y="304920"/>
            <a:ext cx="1447560" cy="13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95440" y="304560"/>
            <a:ext cx="76485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Fundamentos del Proyecto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La recuperación en la actualidad alcanza a la cifra de 25.000 millones de peso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Tasa  promedio de recuperación del sistema bordea el 5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l sistema de crédito se basa en el principio de la solidaridad intergeneracion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1.000 millones de pesos equivalen aproximadamente a 1.000 créditos nuev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La ley vigente establece sanciones que impiden a los profesionales en mora una regularización de su crédi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333399"/>
                </a:solidFill>
                <a:latin typeface="Tahoma"/>
              </a:rPr>
              <a:t>Objetivos del Proyecto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Bookman Old Style"/>
              </a:rPr>
              <a:t>Aumentar recuperación de créditos moros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Bookman Old Style"/>
              </a:rPr>
              <a:t>Mantener el principio de la contingencia al ingreso: en ningún caso se paga más del 5% de la remuneració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Bookman Old Style"/>
              </a:rPr>
              <a:t>Establecer mecanismos más eficientes para el proceso de cobro de las deud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50720" y="609480"/>
            <a:ext cx="779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3399"/>
                </a:solidFill>
                <a:latin typeface="Tahoma"/>
              </a:rPr>
              <a:t>Contenido del Proyecto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Bookman Old Style"/>
              </a:rPr>
              <a:t>Programa  de reprogramación aplicable a deudores morosos al 31 de diciembre de 2001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Bookman Old Style"/>
              </a:rPr>
              <a:t>No considera condonación de interes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Bookman Old Style"/>
              </a:rPr>
              <a:t>Establece un nuevo plazo de 10 años para el pag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Bookman Old Style"/>
              </a:rPr>
              <a:t>Se establece una cuota fija, sujeta a la contingencia del 5% de los ingresos de cada deudor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joven1" descr=""/>
          <p:cNvPicPr/>
          <p:nvPr/>
        </p:nvPicPr>
        <p:blipFill>
          <a:blip r:embed="rId1"/>
          <a:stretch/>
        </p:blipFill>
        <p:spPr>
          <a:xfrm>
            <a:off x="5791320" y="228600"/>
            <a:ext cx="29494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Sigue.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Garamond"/>
              </a:rPr>
              <a:t>Incorpora mecanismos más eficientes para el cobro de las deud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Garamond"/>
              </a:rPr>
              <a:t>Retención de la devolución de impuestos por la Tesorería General de la República para los profesionales que trabajan en forma independien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Garamond"/>
              </a:rPr>
              <a:t>Descuento automático de las remuneraciones del deudor para los profesionales dependient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joven1" descr=""/>
          <p:cNvPicPr/>
          <p:nvPr/>
        </p:nvPicPr>
        <p:blipFill>
          <a:blip r:embed="rId1"/>
          <a:stretch/>
        </p:blipFill>
        <p:spPr>
          <a:xfrm>
            <a:off x="380880" y="4648320"/>
            <a:ext cx="2949840" cy="18288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46280" y="2262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0080" y="2209680"/>
            <a:ext cx="8510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Financiamiento de Estudios Superio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en instituciones autónoma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y acreditada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logo72" descr=""/>
          <p:cNvPicPr/>
          <p:nvPr/>
        </p:nvPicPr>
        <p:blipFill>
          <a:blip r:embed="rId2"/>
          <a:stretch/>
        </p:blipFill>
        <p:spPr>
          <a:xfrm>
            <a:off x="7391520" y="304920"/>
            <a:ext cx="1447560" cy="13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49280" y="456840"/>
            <a:ext cx="7794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Verdana"/>
              </a:rPr>
              <a:t>Acceso al Crédito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812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Apoyo a </a:t>
            </a: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jóvenes y sus padres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 o terceros para seguir estudios de educación super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Beneficia directamente a la clase media y sectores más modestos de la población que teniendo </a:t>
            </a: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méritos académicos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, no cuentan con recursos para estudi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Es un esfuerzo entre el Estado y las instituciones de educación superior de los tres niveles: Universidades, Institutos Profesionales y Centros de Formación Técnic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Financiamiento mixto: Estado financia la formación de un fondo de créditos que años después, se invierten en el mercado de capitales para realimentar el siste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49280" y="-36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99"/>
                </a:solidFill>
                <a:latin typeface="Verdana"/>
              </a:rPr>
              <a:t>Características de los créditos</a:t>
            </a: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7631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Se creará una institucionalidad mixta que permita entregar créditos a estudiantes o sus padr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Con garantías estata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Con garantías de las casas de est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Con garantías de los propios beneficiarios (compromisos de pag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Sin a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Créditos de largo plazo que se empiezan a pagar un año después del egres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Contarán con seguro cesantía, invalidez y desgravam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Topes de crédito por año via Arancel de Referencia y límites al número de años que pueden endeuda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794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99"/>
                </a:solidFill>
                <a:latin typeface="Verdana"/>
              </a:rPr>
              <a:t>Los Planes de Ahorro</a:t>
            </a: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888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10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ahoma"/>
              </a:rPr>
              <a:t>Objetivo: apoyar a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ahoma"/>
              </a:rPr>
              <a:t>estudiantes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ahoma"/>
              </a:rPr>
              <a:t> y familias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ahoma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ahoma"/>
              </a:rPr>
              <a:t>que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ahoma"/>
              </a:rPr>
              <a:t>ahorren para financiar el primer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ahom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ahoma"/>
              </a:rPr>
              <a:t>año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Tahoma"/>
              </a:rPr>
              <a:t>, premiándolos con igual tasa de interés o más, con un tope de 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810 mil pesos (50 UF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just">
              <a:lnSpc>
                <a:spcPct val="10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ahoma"/>
              </a:rPr>
              <a:t>Exige: Ahorro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ahoma"/>
              </a:rPr>
              <a:t>durante un mínimo de dos años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Tahoma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ahoma"/>
              </a:rPr>
              <a:t>al menos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ahoma"/>
              </a:rPr>
              <a:t>un millón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Tahoma"/>
              </a:rPr>
              <a:t>300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ahoma"/>
              </a:rPr>
              <a:t> mil pesos (80 UF) para estudios universitarios o profesionales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Tahoma"/>
              </a:rPr>
              <a:t>,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ahoma"/>
              </a:rPr>
              <a:t>y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Tahoma"/>
              </a:rPr>
              <a:t>650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ahom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ahoma"/>
              </a:rPr>
              <a:t>mil pesos (40 UF) para estudios técnicos de nivel superior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just">
              <a:lnSpc>
                <a:spcPct val="10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Tahoma"/>
              </a:rPr>
              <a:t>Premio: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ahoma"/>
              </a:rPr>
              <a:t> 150% de la tasa de interés real para familias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Tahoma"/>
              </a:rPr>
              <a:t>con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ahoma"/>
              </a:rPr>
              <a:t> ingresos inferiores a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Tahoma"/>
              </a:rPr>
              <a:t>un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ahoma"/>
              </a:rPr>
              <a:t>millón de pesos 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ahoma"/>
              </a:rPr>
              <a:t>(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ahoma"/>
              </a:rPr>
              <a:t>63 UF) y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Tahoma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ahoma"/>
              </a:rPr>
              <a:t>00% de la tasa de interés real para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Tahoma"/>
              </a:rPr>
              <a:t>familias con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ahoma"/>
              </a:rPr>
              <a:t>ingresos entre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Tahoma"/>
              </a:rPr>
              <a:t>un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ahoma"/>
              </a:rPr>
              <a:t>millón y un millón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Tahoma"/>
              </a:rPr>
              <a:t>500 mil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ahoma"/>
              </a:rPr>
              <a:t>pesos (entre 63 y 93 UF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just">
              <a:lnSpc>
                <a:spcPct val="10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ahoma"/>
              </a:rPr>
              <a:t>Ejemplo: si la tasa de interés fue en promedio 5%, el primer tramo obtendrá por esos fondos ahorrados un 12.5% de interés y el segundo tramo un 10% de interé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 algn="just">
              <a:lnSpc>
                <a:spcPct val="10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4T19:25:02Z</dcterms:created>
  <dc:creator>MINEDUC </dc:creator>
  <dc:description/>
  <dc:language>en-US</dc:language>
  <cp:lastModifiedBy>CEI</cp:lastModifiedBy>
  <dcterms:modified xsi:type="dcterms:W3CDTF">2002-05-31T01:09:06Z</dcterms:modified>
  <cp:revision>27</cp:revision>
  <dc:subject/>
  <dc:title>Reforma de la Educación Superior</dc:title>
</cp:coreProperties>
</file>